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628-CEAB-48C8-8933-FF812B68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B21-8417-4972-8C5E-CCEBA868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4B6-AE09-4A9A-83C8-C0DB1111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D1D-0268-4D45-A0A1-51618451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D8E3-96C1-41C5-A4CF-9F8B6A55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8D8D-F248-4596-84F4-DFA87388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F859-62CB-483A-B665-706DCB3E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4575-FA0A-46CB-9A08-471D477D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0F5E-2DFA-40B0-8AA1-73D75A74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172A-991A-4780-BF60-6BAD0602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808B-841A-45AC-92F1-69AD0632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BA3-72FB-4595-812C-3661D4DC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C1A7-2E3E-4C4A-9095-FC0C83E3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C190-9222-46C4-AD0E-E331952E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F0D6-5BAE-4B99-93E6-D1A692D3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B622-60EA-4AAC-83C1-02986042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BC39-FC59-404D-9265-F4D44FFB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643-4B90-42BA-9B93-5E6B33AE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C1B-F0DE-41F1-A444-675C06E4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817-E947-487F-AE88-6E861FA9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BCA-540B-4FF0-BC83-560B744A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76A-BC6D-4F71-A57D-8863BAB7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814-48E3-4975-9552-BAA2033D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024-5945-4932-9027-4063B916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CA58-0171-457E-904A-DC6BA3C88D2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0300-CE45-4665-84B2-BBDC666C6A7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ormbase.org/das/genome/wormbase/1" TargetMode="External"/><Relationship Id="rId2" Type="http://schemas.openxmlformats.org/officeDocument/2006/relationships/hyperlink" Target="http://wormbase.org/das/genome/wormbase/1/type/tRN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ormbase.org/das/wormbase/1/genome/feature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Distributed Annotation System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Version 2</a:t>
            </a:r>
            <a:endParaRPr b="0" lang="en-US" sz="40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73152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llen Day, UCL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nthony Cox, EBI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regg Helt, Affymetrix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ndrew Dalke, Dalke Scientific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DAS/1</a:t>
            </a:r>
            <a:endParaRPr b="0" lang="en-US" sz="4000" spc="-1" strike="noStrike">
              <a:solidFill>
                <a:srgbClr val="cc6600"/>
              </a:solidFill>
              <a:latin typeface="Comic Sans M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95120" y="1523880"/>
            <a:ext cx="1415160" cy="1069200"/>
            <a:chOff x="2895120" y="1523880"/>
            <a:chExt cx="1415160" cy="1069200"/>
          </a:xfrm>
        </p:grpSpPr>
        <p:grpSp>
          <p:nvGrpSpPr>
            <p:cNvPr id="87" name=""/>
            <p:cNvGrpSpPr/>
            <p:nvPr/>
          </p:nvGrpSpPr>
          <p:grpSpPr>
            <a:xfrm>
              <a:off x="3276720" y="1523880"/>
              <a:ext cx="530280" cy="806400"/>
              <a:chOff x="3276720" y="1523880"/>
              <a:chExt cx="530280" cy="806400"/>
            </a:xfrm>
          </p:grpSpPr>
          <p:sp>
            <p:nvSpPr>
              <p:cNvPr id="88" name=""/>
              <p:cNvSpPr/>
              <p:nvPr/>
            </p:nvSpPr>
            <p:spPr>
              <a:xfrm>
                <a:off x="327672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595959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3864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33072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7516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895120" y="2286000"/>
              <a:ext cx="141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ference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362320" y="2590560"/>
            <a:ext cx="1218960" cy="1295280"/>
            <a:chOff x="2362320" y="2590560"/>
            <a:chExt cx="1218960" cy="1295280"/>
          </a:xfrm>
        </p:grpSpPr>
        <p:sp>
          <p:nvSpPr>
            <p:cNvPr id="94" name=""/>
            <p:cNvSpPr/>
            <p:nvPr/>
          </p:nvSpPr>
          <p:spPr>
            <a:xfrm flipV="1">
              <a:off x="2362320" y="3200040"/>
              <a:ext cx="0" cy="6858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362320" y="3200400"/>
              <a:ext cx="12189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8128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52280" y="3962520"/>
            <a:ext cx="4572000" cy="14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419720"/>
            <a:ext cx="16002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4495680"/>
            <a:ext cx="16002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4572000"/>
            <a:ext cx="11430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240" y="41148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C0030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10720" y="426708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C0051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5720" y="419112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M1015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3720" y="5556240"/>
            <a:ext cx="603000" cy="1149120"/>
            <a:chOff x="2133720" y="5556240"/>
            <a:chExt cx="603000" cy="1149120"/>
          </a:xfrm>
        </p:grpSpPr>
        <p:grpSp>
          <p:nvGrpSpPr>
            <p:cNvPr id="105" name=""/>
            <p:cNvGrpSpPr/>
            <p:nvPr/>
          </p:nvGrpSpPr>
          <p:grpSpPr>
            <a:xfrm>
              <a:off x="2133720" y="6013440"/>
              <a:ext cx="603000" cy="691920"/>
              <a:chOff x="2133720" y="6013440"/>
              <a:chExt cx="603000" cy="691920"/>
            </a:xfrm>
          </p:grpSpPr>
          <p:sp>
            <p:nvSpPr>
              <p:cNvPr id="106" name=""/>
              <p:cNvSpPr/>
              <p:nvPr/>
            </p:nvSpPr>
            <p:spPr>
              <a:xfrm>
                <a:off x="215244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17"/>
                    </a:lnTo>
                    <a:lnTo>
                      <a:pt x="0" y="329"/>
                    </a:lnTo>
                    <a:lnTo>
                      <a:pt x="0" y="329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15244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29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33720" y="6013440"/>
                <a:ext cx="603000" cy="525240"/>
              </a:xfrm>
              <a:custGeom>
                <a:avLst/>
                <a:gdLst/>
                <a:ahLst/>
                <a:rect l="l" t="t" r="r" b="b"/>
                <a:pathLst>
                  <a:path w="380" h="331">
                    <a:moveTo>
                      <a:pt x="0" y="318"/>
                    </a:moveTo>
                    <a:lnTo>
                      <a:pt x="11" y="330"/>
                    </a:lnTo>
                    <a:lnTo>
                      <a:pt x="23" y="330"/>
                    </a:lnTo>
                    <a:lnTo>
                      <a:pt x="355" y="330"/>
                    </a:lnTo>
                    <a:lnTo>
                      <a:pt x="367" y="330"/>
                    </a:lnTo>
                    <a:lnTo>
                      <a:pt x="379" y="318"/>
                    </a:lnTo>
                    <a:lnTo>
                      <a:pt x="379" y="23"/>
                    </a:lnTo>
                    <a:lnTo>
                      <a:pt x="379" y="11"/>
                    </a:lnTo>
                    <a:lnTo>
                      <a:pt x="367" y="0"/>
                    </a:lnTo>
                    <a:lnTo>
                      <a:pt x="355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8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3964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3964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22360" y="6592680"/>
                <a:ext cx="225000" cy="93600"/>
              </a:xfrm>
              <a:custGeom>
                <a:avLst/>
                <a:gdLst/>
                <a:ahLst/>
                <a:rect l="l" t="t" r="r" b="b"/>
                <a:pathLst>
                  <a:path w="142" h="59">
                    <a:moveTo>
                      <a:pt x="0" y="58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41" y="58"/>
                    </a:lnTo>
                    <a:lnTo>
                      <a:pt x="0" y="58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0788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47"/>
                    </a:lnTo>
                    <a:lnTo>
                      <a:pt x="0" y="259"/>
                    </a:lnTo>
                    <a:lnTo>
                      <a:pt x="0" y="259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0788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59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90600" y="6068880"/>
                <a:ext cx="488520" cy="412920"/>
              </a:xfrm>
              <a:custGeom>
                <a:avLst/>
                <a:gdLst/>
                <a:ahLst/>
                <a:rect l="l" t="t" r="r" b="b"/>
                <a:pathLst>
                  <a:path w="308" h="260">
                    <a:moveTo>
                      <a:pt x="0" y="247"/>
                    </a:moveTo>
                    <a:lnTo>
                      <a:pt x="11" y="259"/>
                    </a:lnTo>
                    <a:lnTo>
                      <a:pt x="23" y="259"/>
                    </a:lnTo>
                    <a:lnTo>
                      <a:pt x="283" y="259"/>
                    </a:lnTo>
                    <a:lnTo>
                      <a:pt x="295" y="259"/>
                    </a:lnTo>
                    <a:lnTo>
                      <a:pt x="295" y="247"/>
                    </a:lnTo>
                    <a:lnTo>
                      <a:pt x="307" y="247"/>
                    </a:lnTo>
                    <a:lnTo>
                      <a:pt x="307" y="11"/>
                    </a:lnTo>
                    <a:lnTo>
                      <a:pt x="295" y="11"/>
                    </a:lnTo>
                    <a:lnTo>
                      <a:pt x="295" y="0"/>
                    </a:lnTo>
                    <a:lnTo>
                      <a:pt x="283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2696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2696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11" y="11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26960" y="6107040"/>
                <a:ext cx="415800" cy="336600"/>
              </a:xfrm>
              <a:custGeom>
                <a:avLst/>
                <a:gdLst/>
                <a:ahLst/>
                <a:rect l="l" t="t" r="r" b="b"/>
                <a:pathLst>
                  <a:path w="262" h="212">
                    <a:moveTo>
                      <a:pt x="0" y="1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211"/>
                    </a:lnTo>
                    <a:lnTo>
                      <a:pt x="249" y="211"/>
                    </a:lnTo>
                    <a:lnTo>
                      <a:pt x="11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6512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2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224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6512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47840" y="6537240"/>
                <a:ext cx="374040" cy="57240"/>
              </a:xfrm>
              <a:custGeom>
                <a:avLst/>
                <a:gdLst/>
                <a:ahLst/>
                <a:rect l="l" t="t" r="r" b="b"/>
                <a:pathLst>
                  <a:path w="236" h="36">
                    <a:moveTo>
                      <a:pt x="0" y="35"/>
                    </a:moveTo>
                    <a:lnTo>
                      <a:pt x="223" y="35"/>
                    </a:lnTo>
                    <a:lnTo>
                      <a:pt x="235" y="35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53960" y="6673680"/>
                <a:ext cx="380880" cy="2376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0788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23" y="23"/>
                    </a:lnTo>
                    <a:lnTo>
                      <a:pt x="23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0788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0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flipV="1">
              <a:off x="2438280" y="555624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724280" y="1523880"/>
            <a:ext cx="1524240" cy="1067760"/>
            <a:chOff x="4724280" y="1523880"/>
            <a:chExt cx="1524240" cy="1067760"/>
          </a:xfrm>
        </p:grpSpPr>
        <p:grpSp>
          <p:nvGrpSpPr>
            <p:cNvPr id="126" name=""/>
            <p:cNvGrpSpPr/>
            <p:nvPr/>
          </p:nvGrpSpPr>
          <p:grpSpPr>
            <a:xfrm>
              <a:off x="5181480" y="1523880"/>
              <a:ext cx="530280" cy="806400"/>
              <a:chOff x="5181480" y="1523880"/>
              <a:chExt cx="530280" cy="806400"/>
            </a:xfrm>
          </p:grpSpPr>
          <p:sp>
            <p:nvSpPr>
              <p:cNvPr id="127" name=""/>
              <p:cNvSpPr/>
              <p:nvPr/>
            </p:nvSpPr>
            <p:spPr>
              <a:xfrm>
                <a:off x="518148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4340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3548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7992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724280" y="2286000"/>
              <a:ext cx="152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581280" y="2590560"/>
            <a:ext cx="1905120" cy="609840"/>
            <a:chOff x="3581280" y="2590560"/>
            <a:chExt cx="1905120" cy="609840"/>
          </a:xfrm>
        </p:grpSpPr>
        <p:sp>
          <p:nvSpPr>
            <p:cNvPr id="133" name=""/>
            <p:cNvSpPr/>
            <p:nvPr/>
          </p:nvSpPr>
          <p:spPr>
            <a:xfrm flipH="1">
              <a:off x="3581280" y="3200400"/>
              <a:ext cx="19051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48640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523880"/>
            <a:ext cx="1523880" cy="1067760"/>
            <a:chOff x="6858000" y="1523880"/>
            <a:chExt cx="1523880" cy="1067760"/>
          </a:xfrm>
        </p:grpSpPr>
        <p:grpSp>
          <p:nvGrpSpPr>
            <p:cNvPr id="136" name=""/>
            <p:cNvGrpSpPr/>
            <p:nvPr/>
          </p:nvGrpSpPr>
          <p:grpSpPr>
            <a:xfrm>
              <a:off x="7315200" y="1523880"/>
              <a:ext cx="530280" cy="806400"/>
              <a:chOff x="7315200" y="1523880"/>
              <a:chExt cx="530280" cy="806400"/>
            </a:xfrm>
          </p:grpSpPr>
          <p:sp>
            <p:nvSpPr>
              <p:cNvPr id="137" name=""/>
              <p:cNvSpPr/>
              <p:nvPr/>
            </p:nvSpPr>
            <p:spPr>
              <a:xfrm>
                <a:off x="731520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37712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36920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364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6858000" y="2286000"/>
              <a:ext cx="152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800600" y="3962520"/>
            <a:ext cx="4261320" cy="1447560"/>
            <a:chOff x="4800600" y="3962520"/>
            <a:chExt cx="4261320" cy="1447560"/>
          </a:xfrm>
        </p:grpSpPr>
        <p:grpSp>
          <p:nvGrpSpPr>
            <p:cNvPr id="143" name=""/>
            <p:cNvGrpSpPr/>
            <p:nvPr/>
          </p:nvGrpSpPr>
          <p:grpSpPr>
            <a:xfrm>
              <a:off x="4800600" y="3962520"/>
              <a:ext cx="4191120" cy="1447560"/>
              <a:chOff x="4800600" y="3962520"/>
              <a:chExt cx="4191120" cy="1447560"/>
            </a:xfrm>
          </p:grpSpPr>
          <p:sp>
            <p:nvSpPr>
              <p:cNvPr id="144" name=""/>
              <p:cNvSpPr/>
              <p:nvPr/>
            </p:nvSpPr>
            <p:spPr>
              <a:xfrm>
                <a:off x="4800600" y="3962520"/>
                <a:ext cx="4191120" cy="144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029200" y="4419720"/>
                <a:ext cx="160020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53080" y="4495680"/>
                <a:ext cx="160020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77320" y="4572000"/>
                <a:ext cx="83808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63200" y="4114800"/>
                <a:ext cx="102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entury Schoolbook"/>
                  </a:rPr>
                  <a:t>AC00302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54040" y="4191120"/>
                <a:ext cx="85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entury Schoolbook"/>
                  </a:rPr>
                  <a:t>M1015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578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150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8168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866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07732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81480" y="4800600"/>
                <a:ext cx="365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41008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60199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9343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8487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800100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85345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11640" y="4572000"/>
                <a:ext cx="627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WI1029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31920" y="4572000"/>
                <a:ext cx="65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FM820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645600" y="457200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FM1126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551000" y="4572000"/>
                <a:ext cx="555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WI443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8041320" y="4267080"/>
              <a:ext cx="102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AC0051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57200" y="1523880"/>
            <a:ext cx="1523880" cy="1067760"/>
            <a:chOff x="457200" y="1523880"/>
            <a:chExt cx="1523880" cy="1067760"/>
          </a:xfrm>
        </p:grpSpPr>
        <p:grpSp>
          <p:nvGrpSpPr>
            <p:cNvPr id="168" name=""/>
            <p:cNvGrpSpPr/>
            <p:nvPr/>
          </p:nvGrpSpPr>
          <p:grpSpPr>
            <a:xfrm>
              <a:off x="914400" y="1523880"/>
              <a:ext cx="530280" cy="806400"/>
              <a:chOff x="914400" y="1523880"/>
              <a:chExt cx="530280" cy="806400"/>
            </a:xfrm>
          </p:grpSpPr>
          <p:sp>
            <p:nvSpPr>
              <p:cNvPr id="169" name=""/>
              <p:cNvSpPr/>
              <p:nvPr/>
            </p:nvSpPr>
            <p:spPr>
              <a:xfrm>
                <a:off x="91440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7632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6840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1284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57200" y="2286000"/>
              <a:ext cx="152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42640" y="2590560"/>
            <a:ext cx="1219320" cy="609840"/>
            <a:chOff x="1142640" y="2590560"/>
            <a:chExt cx="1219320" cy="609840"/>
          </a:xfrm>
        </p:grpSpPr>
        <p:sp>
          <p:nvSpPr>
            <p:cNvPr id="175" name=""/>
            <p:cNvSpPr/>
            <p:nvPr/>
          </p:nvSpPr>
          <p:spPr>
            <a:xfrm flipH="1">
              <a:off x="1142640" y="3200400"/>
              <a:ext cx="12193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14300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57200" y="4724280"/>
            <a:ext cx="3809880" cy="76320"/>
            <a:chOff x="457200" y="4724280"/>
            <a:chExt cx="3809880" cy="76320"/>
          </a:xfrm>
        </p:grpSpPr>
        <p:sp>
          <p:nvSpPr>
            <p:cNvPr id="178" name=""/>
            <p:cNvSpPr/>
            <p:nvPr/>
          </p:nvSpPr>
          <p:spPr>
            <a:xfrm>
              <a:off x="457200" y="4800600"/>
              <a:ext cx="3049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43000" y="4800600"/>
              <a:ext cx="3049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88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2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4800600"/>
              <a:ext cx="3812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762120" y="4724280"/>
              <a:ext cx="380520" cy="76320"/>
              <a:chOff x="762120" y="4724280"/>
              <a:chExt cx="380520" cy="763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7621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9475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666880" y="4724280"/>
              <a:ext cx="75960" cy="76320"/>
              <a:chOff x="2666880" y="4724280"/>
              <a:chExt cx="75960" cy="7632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2666880" y="4724280"/>
                <a:ext cx="3924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2703600" y="4724280"/>
                <a:ext cx="3924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895480" y="4724280"/>
              <a:ext cx="227880" cy="76320"/>
              <a:chOff x="2895480" y="4724280"/>
              <a:chExt cx="227880" cy="76320"/>
            </a:xfrm>
          </p:grpSpPr>
          <p:sp>
            <p:nvSpPr>
              <p:cNvPr id="191" name=""/>
              <p:cNvSpPr/>
              <p:nvPr/>
            </p:nvSpPr>
            <p:spPr>
              <a:xfrm flipV="1">
                <a:off x="2895480" y="4724280"/>
                <a:ext cx="11700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3006360" y="4724280"/>
                <a:ext cx="11700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447920" y="4724280"/>
              <a:ext cx="380520" cy="76320"/>
              <a:chOff x="1447920" y="4724280"/>
              <a:chExt cx="380520" cy="76320"/>
            </a:xfrm>
          </p:grpSpPr>
          <p:sp>
            <p:nvSpPr>
              <p:cNvPr id="194" name=""/>
              <p:cNvSpPr/>
              <p:nvPr/>
            </p:nvSpPr>
            <p:spPr>
              <a:xfrm flipV="1">
                <a:off x="14479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>
                <a:off x="16333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1148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09480" y="4952880"/>
            <a:ext cx="3886200" cy="228600"/>
            <a:chOff x="609480" y="4952880"/>
            <a:chExt cx="3886200" cy="228600"/>
          </a:xfrm>
        </p:grpSpPr>
        <p:sp>
          <p:nvSpPr>
            <p:cNvPr id="198" name=""/>
            <p:cNvSpPr/>
            <p:nvPr/>
          </p:nvSpPr>
          <p:spPr>
            <a:xfrm>
              <a:off x="6094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66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3372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82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2900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635880" y="5556240"/>
            <a:ext cx="603000" cy="1149120"/>
            <a:chOff x="6635880" y="5556240"/>
            <a:chExt cx="603000" cy="1149120"/>
          </a:xfrm>
        </p:grpSpPr>
        <p:grpSp>
          <p:nvGrpSpPr>
            <p:cNvPr id="205" name=""/>
            <p:cNvGrpSpPr/>
            <p:nvPr/>
          </p:nvGrpSpPr>
          <p:grpSpPr>
            <a:xfrm>
              <a:off x="6635880" y="6013440"/>
              <a:ext cx="603000" cy="691920"/>
              <a:chOff x="6635880" y="6013440"/>
              <a:chExt cx="603000" cy="691920"/>
            </a:xfrm>
          </p:grpSpPr>
          <p:sp>
            <p:nvSpPr>
              <p:cNvPr id="206" name=""/>
              <p:cNvSpPr/>
              <p:nvPr/>
            </p:nvSpPr>
            <p:spPr>
              <a:xfrm>
                <a:off x="665460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17"/>
                    </a:lnTo>
                    <a:lnTo>
                      <a:pt x="0" y="329"/>
                    </a:lnTo>
                    <a:lnTo>
                      <a:pt x="0" y="329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5460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29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35880" y="6013440"/>
                <a:ext cx="603000" cy="525240"/>
              </a:xfrm>
              <a:custGeom>
                <a:avLst/>
                <a:gdLst/>
                <a:ahLst/>
                <a:rect l="l" t="t" r="r" b="b"/>
                <a:pathLst>
                  <a:path w="380" h="331">
                    <a:moveTo>
                      <a:pt x="0" y="318"/>
                    </a:moveTo>
                    <a:lnTo>
                      <a:pt x="11" y="330"/>
                    </a:lnTo>
                    <a:lnTo>
                      <a:pt x="23" y="330"/>
                    </a:lnTo>
                    <a:lnTo>
                      <a:pt x="355" y="330"/>
                    </a:lnTo>
                    <a:lnTo>
                      <a:pt x="367" y="330"/>
                    </a:lnTo>
                    <a:lnTo>
                      <a:pt x="379" y="318"/>
                    </a:lnTo>
                    <a:lnTo>
                      <a:pt x="379" y="23"/>
                    </a:lnTo>
                    <a:lnTo>
                      <a:pt x="379" y="11"/>
                    </a:lnTo>
                    <a:lnTo>
                      <a:pt x="367" y="0"/>
                    </a:lnTo>
                    <a:lnTo>
                      <a:pt x="355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4180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4180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824520" y="6592680"/>
                <a:ext cx="225000" cy="93600"/>
              </a:xfrm>
              <a:custGeom>
                <a:avLst/>
                <a:gdLst/>
                <a:ahLst/>
                <a:rect l="l" t="t" r="r" b="b"/>
                <a:pathLst>
                  <a:path w="142" h="59">
                    <a:moveTo>
                      <a:pt x="0" y="58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41" y="58"/>
                    </a:lnTo>
                    <a:lnTo>
                      <a:pt x="0" y="5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1004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47"/>
                    </a:lnTo>
                    <a:lnTo>
                      <a:pt x="0" y="259"/>
                    </a:lnTo>
                    <a:lnTo>
                      <a:pt x="0" y="259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1004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59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92760" y="6068880"/>
                <a:ext cx="488520" cy="412920"/>
              </a:xfrm>
              <a:custGeom>
                <a:avLst/>
                <a:gdLst/>
                <a:ahLst/>
                <a:rect l="l" t="t" r="r" b="b"/>
                <a:pathLst>
                  <a:path w="308" h="260">
                    <a:moveTo>
                      <a:pt x="0" y="247"/>
                    </a:moveTo>
                    <a:lnTo>
                      <a:pt x="11" y="259"/>
                    </a:lnTo>
                    <a:lnTo>
                      <a:pt x="23" y="259"/>
                    </a:lnTo>
                    <a:lnTo>
                      <a:pt x="283" y="259"/>
                    </a:lnTo>
                    <a:lnTo>
                      <a:pt x="295" y="259"/>
                    </a:lnTo>
                    <a:lnTo>
                      <a:pt x="295" y="247"/>
                    </a:lnTo>
                    <a:lnTo>
                      <a:pt x="307" y="247"/>
                    </a:lnTo>
                    <a:lnTo>
                      <a:pt x="307" y="11"/>
                    </a:lnTo>
                    <a:lnTo>
                      <a:pt x="295" y="11"/>
                    </a:lnTo>
                    <a:lnTo>
                      <a:pt x="295" y="0"/>
                    </a:lnTo>
                    <a:lnTo>
                      <a:pt x="283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2912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2912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11" y="11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729120" y="6107040"/>
                <a:ext cx="415800" cy="336600"/>
              </a:xfrm>
              <a:custGeom>
                <a:avLst/>
                <a:gdLst/>
                <a:ahLst/>
                <a:rect l="l" t="t" r="r" b="b"/>
                <a:pathLst>
                  <a:path w="262" h="212">
                    <a:moveTo>
                      <a:pt x="0" y="1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211"/>
                    </a:lnTo>
                    <a:lnTo>
                      <a:pt x="249" y="211"/>
                    </a:lnTo>
                    <a:lnTo>
                      <a:pt x="11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76728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2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224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76728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50000" y="6537240"/>
                <a:ext cx="374040" cy="57240"/>
              </a:xfrm>
              <a:custGeom>
                <a:avLst/>
                <a:gdLst/>
                <a:ahLst/>
                <a:rect l="l" t="t" r="r" b="b"/>
                <a:pathLst>
                  <a:path w="236" h="36">
                    <a:moveTo>
                      <a:pt x="0" y="35"/>
                    </a:moveTo>
                    <a:lnTo>
                      <a:pt x="223" y="35"/>
                    </a:lnTo>
                    <a:lnTo>
                      <a:pt x="235" y="35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56120" y="6673680"/>
                <a:ext cx="380880" cy="2376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71004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23" y="23"/>
                    </a:lnTo>
                    <a:lnTo>
                      <a:pt x="23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71004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0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V="1">
              <a:off x="6940440" y="5556240"/>
              <a:ext cx="0" cy="38088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733560" y="2590920"/>
            <a:ext cx="3886560" cy="1295280"/>
            <a:chOff x="3733560" y="2590920"/>
            <a:chExt cx="3886560" cy="1295280"/>
          </a:xfrm>
        </p:grpSpPr>
        <p:sp>
          <p:nvSpPr>
            <p:cNvPr id="226" name=""/>
            <p:cNvSpPr/>
            <p:nvPr/>
          </p:nvSpPr>
          <p:spPr>
            <a:xfrm flipV="1">
              <a:off x="76201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733560" y="3505320"/>
              <a:ext cx="3886200" cy="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7339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5627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010280" y="3505320"/>
              <a:ext cx="0" cy="38088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EnsEMBL 1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615080" cy="638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rcRect l="17010" t="46509" r="67983" b="28447"/>
          <a:stretch/>
        </p:blipFill>
        <p:spPr>
          <a:xfrm>
            <a:off x="1676520" y="3124080"/>
            <a:ext cx="201456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EnsEMBL 2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5760" y="227160"/>
            <a:ext cx="7615080" cy="6389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Deficiencies of DAS/1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rmat for representing genomic features too rigid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escription of genomic features too flexibl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o IDs for genomic features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o write-back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DAS/2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ess Rigi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ltiple formats for representing genomic featur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rbitrary nesting of features.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AS/2 More Rigi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ses Sequence Ontology (SO) for describing featur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ady to accept attribute ontologi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dd your own ontology, but publish it!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REST-Style IDs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Data Sourc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http://wormbase.org/das/genome/wormbase/1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Feature Typ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http://wormbase.org/das/genome/wormbase/1/type/tRNA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Featur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http://wormbase.org/das/genome/wormbase/1/feature/gene0038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Write-Back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UT http://wormbase.org/das/wormbase/1/genome/feature/M7.1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Update identified feature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OS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http://wormbase.org/das/wormbase/1/genome/featur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reate featur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ELETE http://wormbase.org/das/wormbase/1/genome/feature/M7.1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elete featur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Comic Sans MS"/>
              </a:rPr>
              <a:t>Progress</a:t>
            </a:r>
            <a:endParaRPr b="0" lang="en-US" sz="36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raft spec up and ready for comment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ttp://www.biodas.org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erver prototype up and runn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e Allen Da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lient prototype up and runn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e Gregg Hel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oject still in flux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 </cp:lastModifiedBy>
  <cp:lastPrinted>1998-10-28T21:29:29Z</cp:lastPrinted>
  <dcterms:modified xsi:type="dcterms:W3CDTF">2005-05-18T01:09:44Z</dcterms:modified>
  <cp:revision>698</cp:revision>
  <dc:subject/>
  <dc:title>Training</dc:title>
</cp:coreProperties>
</file>